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7.jpeg" ContentType="image/jpeg"/>
  <Override PartName="/ppt/media/image1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2.gif" ContentType="image/gif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2874-760A-4E1B-9624-6577AFB2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F81-80FB-4C61-861B-F78D85DC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752-7DD8-4CC2-ADB0-027CFC82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783-9092-4049-8875-6ECE7A84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0A34-0139-4E45-86EF-A3F47BE1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EDB7-1B3A-4FD8-92EB-A47CCD67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80C5-725E-4FC0-B0BD-C762E5F4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11A1-8210-4B29-9E4A-3A18FD05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0AB7-2687-462E-82C2-53337420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7A42-802A-4FEB-AC4F-9CA419AA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C510-30B6-4C14-A1DF-EDE404E3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B8F1-4DA7-4EDE-8CAB-4178670B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E121-0CCD-48CB-A5E2-AFDD887C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9684-1FB8-426A-868B-8DC1C2E4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DE11-ED29-4B10-9D7B-8D9DD6B1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1C0C-311C-4FF2-BC7F-A3A80E54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8F55-9139-45F8-B1CD-50EC78C8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EA0A-F257-4975-A37E-6E551A23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523-9F78-4996-8AF8-75B0FA50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3B8-46D5-43ED-BB72-FD5DF4CE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E968-CFC0-4969-AE89-2C3A032A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556-FB06-48E8-97B8-10C65804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1C23-8733-416C-886D-61403381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42CA-1891-4260-B2AD-5735C9D6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A0CA-E753-49C1-927A-997D3F7F22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48A2-E095-45C4-836D-3D702B9AD4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ltavista.com/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www.dogpile.com/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://www.google.com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j0309261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7162560" cy="1600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82280" y="1695600"/>
            <a:ext cx="6651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ing Search Engi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90360" y="55627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 to Becoming a Serious Sur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668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j0283966" descr=""/>
          <p:cNvPicPr/>
          <p:nvPr/>
        </p:nvPicPr>
        <p:blipFill>
          <a:blip r:embed="rId2"/>
          <a:stretch/>
        </p:blipFill>
        <p:spPr>
          <a:xfrm>
            <a:off x="2438280" y="3048120"/>
            <a:ext cx="3962520" cy="2077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7432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Mrs. Keegan’s Least Favorite Search Eng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don’t use Ask Jee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tin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give great resul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get trapp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s poor ha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ajjeeves1" descr="Jeeves"/>
          <p:cNvPicPr/>
          <p:nvPr/>
        </p:nvPicPr>
        <p:blipFill>
          <a:blip r:embed="rId1"/>
          <a:stretch/>
        </p:blipFill>
        <p:spPr>
          <a:xfrm>
            <a:off x="2666880" y="1600200"/>
            <a:ext cx="2114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2004set2_middle_bottom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676520"/>
            <a:ext cx="7543800" cy="4294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ther types of sources are bett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Engines should be l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encyclopedias, books, and other online sources first: http://www.cbsd.org/library/libresources2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131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arch Engi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23920" y="1971360"/>
            <a:ext cx="363240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you to 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you type in keywords and get millions of m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engine is not where you ge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71920" y="190512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7480" y="2754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logo" descr="Google"/>
          <p:cNvPicPr/>
          <p:nvPr/>
        </p:nvPicPr>
        <p:blipFill>
          <a:blip r:embed="rId1"/>
          <a:stretch/>
        </p:blipFill>
        <p:spPr>
          <a:xfrm>
            <a:off x="5410080" y="2362320"/>
            <a:ext cx="2338560" cy="931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291456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av3" descr="AltaVist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86400" y="3200400"/>
            <a:ext cx="2274840" cy="879480"/>
          </a:xfrm>
          <a:prstGeom prst="rect">
            <a:avLst/>
          </a:prstGeom>
          <a:ln w="0">
            <a:noFill/>
          </a:ln>
        </p:spPr>
      </p:pic>
      <p:pic>
        <p:nvPicPr>
          <p:cNvPr id="104" name="idx_logo" descr="Dogpile Search. Good Dog. Great Results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4343400"/>
            <a:ext cx="2697120" cy="800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79404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460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mamma" descr=""/>
          <p:cNvPicPr/>
          <p:nvPr/>
        </p:nvPicPr>
        <p:blipFill>
          <a:blip r:embed="rId6"/>
          <a:stretch/>
        </p:blipFill>
        <p:spPr>
          <a:xfrm>
            <a:off x="5486400" y="5334120"/>
            <a:ext cx="24382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Key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cif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what you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looking for information about what Asian tigers e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i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sian ti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sian tigers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tigereating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198108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lsmith3_sm" descr="Members of the Historic Foodways department prepare food in the kitchen of the Governor's Palace."/>
          <p:cNvPicPr/>
          <p:nvPr/>
        </p:nvPicPr>
        <p:blipFill>
          <a:blip r:embed="rId1"/>
          <a:stretch/>
        </p:blipFill>
        <p:spPr>
          <a:xfrm>
            <a:off x="5065560" y="1905120"/>
            <a:ext cx="2505240" cy="3809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other examp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7242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to find information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smiths in colonial times for Colonial Day, which would you type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Colonia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Blacksmiths colon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What did colonial  blacksmiths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Blackmi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arver" descr="George Washington Carve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400040"/>
            <a:ext cx="7620120" cy="45021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en using search engines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29714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say I type in George Washington Carv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might get hundreds of thousands of match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matches that contain “George,” “Washington,” “George Washington,” “George Washington Carver,” and “Carve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grammar" descr="[Logo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523880"/>
            <a:ext cx="7848720" cy="44960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icks of the Tra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earch engines let you use “quotation marks,” so that you are only looking for all three word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 Car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2224080" y="27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*More tricks *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want information on the dog called the boxer or boxers use the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er*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give you boxer and box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roblem could you run into for this 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boxer_hostetter3" descr="Boxer, Greenfield Puppies, Pennsylvania"/>
          <p:cNvPicPr/>
          <p:nvPr/>
        </p:nvPicPr>
        <p:blipFill>
          <a:blip r:embed="rId1"/>
          <a:stretch/>
        </p:blipFill>
        <p:spPr>
          <a:xfrm>
            <a:off x="4191120" y="2590920"/>
            <a:ext cx="1752480" cy="1612800"/>
          </a:xfrm>
          <a:prstGeom prst="rect">
            <a:avLst/>
          </a:prstGeom>
          <a:ln w="0">
            <a:noFill/>
          </a:ln>
        </p:spPr>
      </p:pic>
      <p:pic>
        <p:nvPicPr>
          <p:cNvPr id="124" name="boxer_hostetter" descr="Boxer, Greenfield Puppies, Pennsylvania"/>
          <p:cNvPicPr/>
          <p:nvPr/>
        </p:nvPicPr>
        <p:blipFill>
          <a:blip r:embed="rId2"/>
          <a:stretch/>
        </p:blipFill>
        <p:spPr>
          <a:xfrm>
            <a:off x="1066680" y="2590920"/>
            <a:ext cx="18288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j030926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1523880"/>
            <a:ext cx="7238880" cy="4473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arch Engines aren’t all they are cracked up to be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ccurate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s created by kids and dummies: Look for an aut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ules for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lightbulb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2960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ays to help yourself when search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ways to narrow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: 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www.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google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nd be patien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be willing to admit that internet is not be the best option in all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8T22:37:50Z</dcterms:created>
  <dc:creator>Merck &amp; Co., Inc.</dc:creator>
  <dc:description/>
  <dc:language>en-US</dc:language>
  <cp:lastModifiedBy>MILL CREEK ELEMENTARY SCHOOL</cp:lastModifiedBy>
  <dcterms:modified xsi:type="dcterms:W3CDTF">2004-04-23T17:07:40Z</dcterms:modified>
  <cp:revision>12</cp:revision>
  <dc:subject/>
  <dc:title>Using the Internet</dc:title>
</cp:coreProperties>
</file>